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216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09640"/>
            <a:ext cx="5597280" cy="4178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216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DB4CE6A-6272-4778-9F5F-72B78CFB2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00200" y="4409640"/>
            <a:ext cx="5597280" cy="4178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E SLIDE ABOVE FOR DETAILS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00200" y="4409640"/>
            <a:ext cx="5597280" cy="4178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:   Document title,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“Step By Step Interactive Audit Encoding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equently us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hen encoding new IA Aud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cat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oc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his PowerPoint will be on our website-do not wri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nt &amp; Sto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is docu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00200" y="4409640"/>
            <a:ext cx="5597280" cy="4178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methods aiding in encoding the IA Aud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RS Support Cen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ocu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e.,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werPoint Presentation from past con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W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RS-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00200" y="4409640"/>
            <a:ext cx="5597280" cy="4178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t Categ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nk of as driving for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ehind making interactive audit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et with others at your schoo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garding what should b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ed on charts &amp; graph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Step By Step document is a great resour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encod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t Categ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00200" y="4409640"/>
            <a:ext cx="5597280" cy="4178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peek at UK’s Chart Categ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ate Category Nam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Next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sign the charac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 mindful of Requirement Nam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ince they are the may b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bels on the charts &amp; graph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00200" y="4409640"/>
            <a:ext cx="5597280" cy="4178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cript Requirem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ami showed how to create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K created th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ainly for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orting purpos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expanding the capability of the Planned Cours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e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00200" y="4409640"/>
            <a:ext cx="5597280" cy="4178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cript Requirem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wo show on charts &amp; graph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thin the View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se History section of the IA Aud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”Miscellaneous” attempts to cap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on-gpa &amp; non-credi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00200" y="4409640"/>
            <a:ext cx="5597280" cy="4178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se Cart &amp; Planned Course fe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d b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oth students and advi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urse sele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uture semesters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ider drop down menu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Year-Terms values within bo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RSWEB and the interactive aud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een tha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many users created their own version of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hat a Year-Term value should look lik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ice the drop down menu on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reating a planned transcript requiremen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us to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expand our future semest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00200" y="4409640"/>
            <a:ext cx="5597280" cy="4178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se Cart &amp; Planned Course fe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ing asterisks for A/R lines may be inevitab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ertai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ments such as electives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OWEVER…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en making SELECT &amp;  NOT FROM line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o link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if possible &amp; where possible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e as specific a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in A/R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urse Cart &amp; Planned Cours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tures may becom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less of 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burden to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C3ED-F700-4EBE-A1F6-3CD515F79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A2C0-F70B-4F13-B436-C1AFBC33E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6257-2284-479E-A0C1-163238D81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5B16-8DDF-40DD-A355-4D7DD6C20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9BE9-7283-4B7E-94F3-96AF8E5B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1E89-AF37-4B83-9049-2B569C175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356D-A44B-450B-B0A2-90217BB11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5C20-2195-4DC8-AFA4-8772E88A0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B655-0D62-4066-BFBF-63C4AA464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D479-4530-4BD8-9218-847EC0DE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0ECA-F9C8-4121-A873-AA17E8A8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59C9-9473-4577-A6A1-7846AAC6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3e3c7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61045-23A1-4A27-82B9-33AE1A6F4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3e3c7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514600"/>
            <a:ext cx="9144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333399"/>
                </a:solidFill>
                <a:latin typeface="Poor Richard"/>
              </a:rPr>
              <a:t>IA Encoding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71600" y="4038480"/>
            <a:ext cx="64008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oor Richard"/>
              </a:rPr>
              <a:t>University of Kentuc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oor Richard"/>
              </a:rPr>
              <a:t>Degree 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Lucida Calligraphy"/>
              </a:rPr>
              <a:t>APE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362320" y="914400"/>
            <a:ext cx="44193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cc0000"/>
                    </a:gs>
                    <a:gs pos="100000">
                      <a:srgbClr val="3333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Poor Richard"/>
              </a:rPr>
              <a:t>DARS 3.5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0000"/>
                  </a:gs>
                  <a:gs pos="100000">
                    <a:srgbClr val="3333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Poor Richard"/>
              <a:ea typeface="Poor Richard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772400" y="6095880"/>
            <a:ext cx="1219320" cy="676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3e3c7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772400" y="6095880"/>
            <a:ext cx="1219320" cy="6764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28600" y="304920"/>
            <a:ext cx="855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IA AUDIT: THINGS TO LOOK OUT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1066680"/>
            <a:ext cx="8610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UNNECESSARY GPA’S ON CHARTS &amp;/OR GRAPH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i="1" lang="en-US" sz="1800" spc="-1" strike="noStrike">
                <a:solidFill>
                  <a:srgbClr val="3399ff"/>
                </a:solidFill>
                <a:latin typeface="Arial"/>
              </a:rPr>
              <a:t>Asking Miami about ability to choose to “hide” gpa results from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99ff"/>
                </a:solidFill>
                <a:latin typeface="Arial"/>
              </a:rPr>
              <a:t>       </a:t>
            </a:r>
            <a:r>
              <a:rPr b="1" i="1" lang="en-US" sz="1800" spc="-1" strike="noStrike">
                <a:solidFill>
                  <a:srgbClr val="3399ff"/>
                </a:solidFill>
                <a:latin typeface="Arial"/>
              </a:rPr>
              <a:t>charts and/or graphs if the focus is to be solely on credit hou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99ff"/>
                </a:solidFill>
                <a:latin typeface="Arial"/>
              </a:rPr>
              <a:t>       </a:t>
            </a:r>
            <a:r>
              <a:rPr b="1" i="1" lang="en-US" sz="1800" spc="-1" strike="noStrike">
                <a:solidFill>
                  <a:srgbClr val="3399ff"/>
                </a:solidFill>
                <a:latin typeface="Arial"/>
              </a:rPr>
              <a:t>or “hide” credit hours if the focus is to be solely on g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66"/>
                </a:solidFill>
                <a:latin typeface="Arial"/>
              </a:rPr>
              <a:t>&lt;click for nex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266688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OUBLE DIPPING MAY CAUSE GPA &amp;/OR CREDIT HOURS TO BE OF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i="1" lang="en-US" sz="1800" spc="-1" strike="noStrike">
                <a:solidFill>
                  <a:srgbClr val="3399ff"/>
                </a:solidFill>
                <a:latin typeface="Arial"/>
              </a:rPr>
              <a:t>If there are requirements that allow “double dipping” of a cours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99ff"/>
                </a:solidFill>
                <a:latin typeface="Arial"/>
              </a:rPr>
              <a:t>       </a:t>
            </a:r>
            <a:r>
              <a:rPr b="1" i="1" lang="en-US" sz="1800" spc="-1" strike="noStrike">
                <a:solidFill>
                  <a:srgbClr val="3399ff"/>
                </a:solidFill>
                <a:latin typeface="Arial"/>
              </a:rPr>
              <a:t>then that course’s gpa &amp;/or credit hours may count multiple ti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66"/>
                </a:solidFill>
                <a:latin typeface="Arial"/>
              </a:rPr>
              <a:t>&lt;click for nex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403848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IDDEN REQUIREMENTS TEND TO SHOW IN CHA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i="1" lang="en-US" sz="1800" spc="-1" strike="noStrike">
                <a:solidFill>
                  <a:srgbClr val="3399ff"/>
                </a:solidFill>
                <a:latin typeface="Arial"/>
              </a:rPr>
              <a:t>Asking Miami about hidden requirements appearing in the charts &amp;/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99ff"/>
                </a:solidFill>
                <a:latin typeface="Arial"/>
              </a:rPr>
              <a:t>       </a:t>
            </a:r>
            <a:r>
              <a:rPr b="1" i="1" lang="en-US" sz="1800" spc="-1" strike="noStrike">
                <a:solidFill>
                  <a:srgbClr val="3399ff"/>
                </a:solidFill>
                <a:latin typeface="Arial"/>
              </a:rPr>
              <a:t>graph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66"/>
                </a:solidFill>
                <a:latin typeface="Arial"/>
              </a:rPr>
              <a:t>&lt;click for nex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525780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F DECIMAL AMOUNTS SHOW ON AUDIT’S REQUIREMENT LEVEL CHART AND/OR GRAPH…USE REQUIREMENT LEVEL ‘MAX HOURS’ FIE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i="1" lang="en-US" sz="1800" spc="-1" strike="noStrike">
                <a:solidFill>
                  <a:srgbClr val="3399ff"/>
                </a:solidFill>
                <a:latin typeface="Arial"/>
              </a:rPr>
              <a:t>If a chart and/or graph shows the credit hours as a decimal amoun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99ff"/>
                </a:solidFill>
                <a:latin typeface="Arial"/>
              </a:rPr>
              <a:t>       </a:t>
            </a:r>
            <a:r>
              <a:rPr b="1" i="1" lang="en-US" sz="1800" spc="-1" strike="noStrike">
                <a:solidFill>
                  <a:srgbClr val="3399ff"/>
                </a:solidFill>
                <a:latin typeface="Arial"/>
              </a:rPr>
              <a:t>remember to use the requirement level “max hours” fie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3e3c7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772400" y="6095880"/>
            <a:ext cx="1219320" cy="6764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895480" y="2666880"/>
            <a:ext cx="3124440" cy="1191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Palatino"/>
              </a:rPr>
              <a:t>AND NOW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Palatino"/>
              </a:rPr>
              <a:t>BR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3e3c7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0000"/>
                </a:solidFill>
                <a:uFillTx/>
                <a:latin typeface="Poor Richard"/>
              </a:rPr>
              <a:t>Style She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772400" y="6095880"/>
            <a:ext cx="1219320" cy="6764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0" y="685800"/>
            <a:ext cx="64771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Lucida Sans"/>
              </a:rPr>
              <a:t>File Name:</a:t>
            </a:r>
            <a:r>
              <a:rPr b="1" lang="en-US" sz="1200" spc="-1" strike="noStrike">
                <a:solidFill>
                  <a:srgbClr val="333399"/>
                </a:solidFill>
                <a:latin typeface="Lucida Sans"/>
              </a:rPr>
              <a:t> </a:t>
            </a:r>
            <a:r>
              <a:rPr b="1" lang="en-US" sz="1200" spc="-1" strike="noStrike">
                <a:solidFill>
                  <a:srgbClr val="333399"/>
                </a:solidFill>
                <a:latin typeface="Lucida Sans"/>
              </a:rPr>
              <a:t>	</a:t>
            </a:r>
            <a:r>
              <a:rPr b="1" lang="en-US" sz="1200" spc="-1" strike="noStrike">
                <a:solidFill>
                  <a:srgbClr val="333399"/>
                </a:solidFill>
                <a:latin typeface="Lucida Sans"/>
              </a:rPr>
              <a:t>	</a:t>
            </a:r>
            <a:r>
              <a:rPr b="1" lang="en-US" sz="1200" spc="-1" strike="noStrike">
                <a:solidFill>
                  <a:srgbClr val="333399"/>
                </a:solidFill>
                <a:latin typeface="Lucida Sans"/>
              </a:rPr>
              <a:t>audit.c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Lucida Sans"/>
              </a:rPr>
              <a:t>CORDA Directory:</a:t>
            </a:r>
            <a:r>
              <a:rPr b="1" lang="en-US" sz="1200" spc="-1" strike="noStrike">
                <a:solidFill>
                  <a:srgbClr val="333399"/>
                </a:solidFill>
                <a:latin typeface="Lucida Sans"/>
              </a:rPr>
              <a:t>	</a:t>
            </a:r>
            <a:r>
              <a:rPr b="1" lang="en-US" sz="1200" spc="-1" strike="noStrike">
                <a:solidFill>
                  <a:srgbClr val="009900"/>
                </a:solidFill>
                <a:latin typeface="Lucida Sans"/>
              </a:rPr>
              <a:t>/darwinia351/info/</a:t>
            </a:r>
            <a:r>
              <a:rPr b="1" lang="en-US" sz="1200" spc="-1" strike="noStrike">
                <a:solidFill>
                  <a:srgbClr val="333399"/>
                </a:solidFill>
                <a:latin typeface="Lucida Sans"/>
              </a:rPr>
              <a:t>audit.css</a:t>
            </a:r>
            <a:r>
              <a:rPr b="1" lang="en-US" sz="1200" spc="-1" strike="noStrike">
                <a:solidFill>
                  <a:srgbClr val="000000"/>
                </a:solidFill>
                <a:latin typeface="Poor Richard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rcRect l="21750" t="14439" r="39753" b="28314"/>
          <a:stretch/>
        </p:blipFill>
        <p:spPr>
          <a:xfrm>
            <a:off x="152280" y="1371600"/>
            <a:ext cx="3461040" cy="4114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rcRect l="21750" t="13782" r="39753" b="27937"/>
          <a:stretch/>
        </p:blipFill>
        <p:spPr>
          <a:xfrm>
            <a:off x="3505320" y="1371600"/>
            <a:ext cx="3419280" cy="41148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057400" y="1600200"/>
            <a:ext cx="1523880" cy="7632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2743200"/>
            <a:ext cx="1524240" cy="228600"/>
          </a:xfrm>
          <a:prstGeom prst="ellipse">
            <a:avLst/>
          </a:prstGeom>
          <a:noFill/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010280" y="457200"/>
            <a:ext cx="2133720" cy="75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uirement headings changed to bold and underl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width from 750 pixels to 815 pixe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ed font color of courses fulfilling the requirements from light to dark bl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sited link colo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visited links from dark blue to dark 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ed the Select from to bold and dark blue but left not from the sa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sor chan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62520" y="2743200"/>
            <a:ext cx="1523880" cy="228600"/>
          </a:xfrm>
          <a:prstGeom prst="ellipse">
            <a:avLst/>
          </a:prstGeom>
          <a:noFill/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352680"/>
            <a:ext cx="1371600" cy="457200"/>
          </a:xfrm>
          <a:prstGeom prst="line">
            <a:avLst/>
          </a:prstGeom>
          <a:ln w="284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3200400"/>
            <a:ext cx="2895840" cy="1600200"/>
          </a:xfrm>
          <a:prstGeom prst="rect">
            <a:avLst/>
          </a:pr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3200400"/>
            <a:ext cx="2895480" cy="1600200"/>
          </a:xfrm>
          <a:prstGeom prst="rect">
            <a:avLst/>
          </a:pr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2895480"/>
            <a:ext cx="2666880" cy="3049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62520" y="2971800"/>
            <a:ext cx="2666880" cy="228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19320" y="5029200"/>
            <a:ext cx="380880" cy="304920"/>
          </a:xfrm>
          <a:prstGeom prst="ellipse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5105520"/>
            <a:ext cx="380880" cy="304560"/>
          </a:xfrm>
          <a:prstGeom prst="ellipse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523880"/>
            <a:ext cx="2133720" cy="22860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05320" y="1600200"/>
            <a:ext cx="2133360" cy="22860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057400" y="2819520"/>
            <a:ext cx="198108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76720" y="3809880"/>
            <a:ext cx="609480" cy="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124080" y="3048120"/>
            <a:ext cx="83844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00200" y="5257800"/>
            <a:ext cx="304812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5715000" y="990360"/>
            <a:ext cx="1143000" cy="609480"/>
          </a:xfrm>
          <a:prstGeom prst="line">
            <a:avLst/>
          </a:prstGeom>
          <a:ln w="1260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5562720" y="2437920"/>
            <a:ext cx="1371600" cy="381240"/>
          </a:xfrm>
          <a:prstGeom prst="line">
            <a:avLst/>
          </a:prstGeom>
          <a:ln w="1260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562720" y="4038480"/>
            <a:ext cx="1523880" cy="38124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477120" y="3124080"/>
            <a:ext cx="533160" cy="213372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05520" y="5334120"/>
            <a:ext cx="1981080" cy="914400"/>
          </a:xfrm>
          <a:prstGeom prst="line">
            <a:avLst/>
          </a:prstGeom>
          <a:ln w="19080">
            <a:solidFill>
              <a:srgbClr val="00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400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000"/>
                            </p:stCondLst>
                            <p:childTnLst>
                              <p:par>
                                <p:cTn id="2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7000"/>
                            </p:stCondLst>
                            <p:childTnLst>
                              <p:par>
                                <p:cTn id="2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30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000"/>
                            </p:stCondLst>
                            <p:childTnLst>
                              <p:par>
                                <p:cTn id="3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000"/>
                            </p:stCondLst>
                            <p:childTnLst>
                              <p:par>
                                <p:cTn id="3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0"/>
                            </p:stCondLst>
                            <p:childTnLst>
                              <p:par>
                                <p:cTn id="3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300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0"/>
                            </p:stCondLst>
                            <p:childTnLst>
                              <p:par>
                                <p:cTn id="3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3000"/>
                            </p:stCondLst>
                            <p:childTnLst>
                              <p:par>
                                <p:cTn id="4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0"/>
                            </p:stCondLst>
                            <p:childTnLst>
                              <p:par>
                                <p:cTn id="4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3e3c7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772400" y="6095880"/>
            <a:ext cx="1219320" cy="67644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0000"/>
                </a:solidFill>
                <a:uFillTx/>
                <a:latin typeface="Poor Richard"/>
              </a:rPr>
              <a:t>IP Graph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rcRect l="21750" t="19688" r="39753" b="28125"/>
          <a:stretch/>
        </p:blipFill>
        <p:spPr>
          <a:xfrm>
            <a:off x="762120" y="762120"/>
            <a:ext cx="5599080" cy="60958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rcRect l="22503" t="19688" r="39000" b="28125"/>
          <a:stretch/>
        </p:blipFill>
        <p:spPr>
          <a:xfrm>
            <a:off x="1219320" y="762120"/>
            <a:ext cx="5545080" cy="60958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5562720" y="2133720"/>
            <a:ext cx="342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This graphic is included with the 3.5.2 releas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000"/>
                            </p:stCondLst>
                            <p:childTnLst>
                              <p:par>
                                <p:cTn id="443" nodeType="afterEffect" fill="hold" presetClass="exit" presetID="42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4" dur="5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5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5000"/>
                            </p:stCondLst>
                            <p:childTnLst>
                              <p:par>
                                <p:cTn id="44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44444E-006 L -0.12813 4.44444E-006 E">
                                      <p:cBhvr>
                                        <p:cTn id="450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7000"/>
                            </p:stCondLst>
                            <p:childTnLst>
                              <p:par>
                                <p:cTn id="452" nodeType="afterEffect" fill="hold" presetClass="entr" presetID="45">
                                  <p:stCondLst>
                                    <p:cond delay="1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3e3c7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772400" y="6095880"/>
            <a:ext cx="1219320" cy="67644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0000"/>
                </a:solidFill>
                <a:uFillTx/>
                <a:latin typeface="Poor Richard"/>
              </a:rPr>
              <a:t>Course Description Li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106668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****.html#***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52480" y="19051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COURSE PREF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181480" y="19051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COURS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286000" y="1371600"/>
            <a:ext cx="838080" cy="3808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5943240" y="1447920"/>
            <a:ext cx="609480" cy="3808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828800" y="2514600"/>
            <a:ext cx="5510160" cy="16398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743200" y="4267080"/>
            <a:ext cx="3886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IO .html#    1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A  .html#    2 sp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95280" y="548640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n the UNIX web server, use the symbolic link comma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ln -s ma.html ‘ma  .html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ln -s rae.html ‘rus.html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2000"/>
                            </p:stCondLst>
                            <p:childTnLst>
                              <p:par>
                                <p:cTn id="4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3000"/>
                            </p:stCondLst>
                            <p:childTnLst>
                              <p:par>
                                <p:cTn id="4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0"/>
                            </p:stCondLst>
                            <p:childTnLst>
                              <p:par>
                                <p:cTn id="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2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2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3e3c7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7772400" y="6095880"/>
            <a:ext cx="1219320" cy="6764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0000"/>
                </a:solidFill>
                <a:uFillTx/>
                <a:latin typeface="Poor Richard"/>
              </a:rPr>
              <a:t>Help Graph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228600" y="990720"/>
            <a:ext cx="4038480" cy="30384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419720" y="1143000"/>
            <a:ext cx="44956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A_Audit1.png was 323 K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hanged file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duced the number of col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457200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IA_Audit1.gif is now 40 K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made a 87% reduction siz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0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2000"/>
                            </p:stCondLst>
                            <p:childTnLst>
                              <p:par>
                                <p:cTn id="5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3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3100"/>
                            </p:stCondLst>
                            <p:childTnLst>
                              <p:par>
                                <p:cTn id="55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3e3c7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772400" y="6095880"/>
            <a:ext cx="1219320" cy="67644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0000"/>
                </a:solidFill>
                <a:uFillTx/>
                <a:latin typeface="Poor Richard"/>
              </a:rPr>
              <a:t>HTML Tags in the Aud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1143000" y="914400"/>
            <a:ext cx="6934320" cy="12812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1143000" y="2362320"/>
            <a:ext cx="6934320" cy="12808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1752480" y="3809880"/>
            <a:ext cx="5715000" cy="2863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2000"/>
                            </p:stCondLst>
                            <p:childTnLst>
                              <p:par>
                                <p:cTn id="5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3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3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3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3e3c7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772400" y="6095880"/>
            <a:ext cx="1219320" cy="6764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2209680" y="1219320"/>
            <a:ext cx="5334120" cy="39193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rcRect l="23250" t="41251" r="37503" b="32813"/>
          <a:stretch/>
        </p:blipFill>
        <p:spPr>
          <a:xfrm>
            <a:off x="2514600" y="4114800"/>
            <a:ext cx="4889520" cy="25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07407E-006 L -3.33333E-006 -0.17454 E">
                                      <p:cBhvr>
                                        <p:cTn id="598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3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3e3c7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772400" y="6095880"/>
            <a:ext cx="1219320" cy="6764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0000"/>
                </a:solidFill>
                <a:uFillTx/>
                <a:latin typeface="Poor Richard"/>
              </a:rPr>
              <a:t>APEX Webs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9907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ttp://www.uky.edu/degreeaudit/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1981080"/>
            <a:ext cx="891540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Detailed Docu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Download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ttp://www.uky.edu/degreeaudit/download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3429000" y="4952880"/>
            <a:ext cx="2362320" cy="1771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0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2000"/>
                            </p:stCondLst>
                            <p:childTnLst>
                              <p:par>
                                <p:cTn id="6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9" dur="5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7000"/>
                            </p:stCondLst>
                            <p:childTnLst>
                              <p:par>
                                <p:cTn id="621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627" nodeType="afterEffect" fill="hold" presetClass="entr" presetID="31">
                                  <p:stCondLst>
                                    <p:cond delay="20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5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3e3c7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92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Palatino"/>
              </a:rPr>
              <a:t>IA AUDIT:   ENCODING  HEL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772400" y="6095880"/>
            <a:ext cx="1219320" cy="676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09480" y="8380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Miami University DARS Team has an excellent document titled, “Step by Step Interactive Audit Encoding”…frequently used by me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4191120" cy="4038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4800600" y="15238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DOCUMENT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2096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Starting Poi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DARS Support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724280" y="297180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Click 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DARS/CAS Downloa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4280" y="3809880"/>
            <a:ext cx="373392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Click 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DARWIN 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(towards the top of left side inde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541008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Open f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Step By Step Interactive Audit Enco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24280" y="464832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Go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Section labled: </a:t>
            </a: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715000"/>
            <a:ext cx="3504960" cy="11912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TIP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Print &amp; store document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in a handy-dandy, easi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retrievable bin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50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5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850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5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3e3c7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772400" y="6095880"/>
            <a:ext cx="1219320" cy="6764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92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Palatino"/>
              </a:rPr>
              <a:t>IA AUDIT:   ENCODING  HEL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12193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vantGarde"/>
              </a:rPr>
              <a:t>IN DOUBT?  CONFUSED?  LOST?  NEVER FEAR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175248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-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Visit the</a:t>
            </a:r>
            <a:r>
              <a:rPr b="1" i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DARS SUPPORT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-There may be existing documentation, such as what w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just shared, regarding encoding the IA Audit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HINT, HIN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      …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IA Audit related PowerPoint presentations from pri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         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June 2004 DARS Users Confer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3657600"/>
            <a:ext cx="746784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-Search the </a:t>
            </a:r>
            <a:r>
              <a:rPr b="1" i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OWL (ONLINE WIZARD’S LIBR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-Someone else may have experienced the same probl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-If you can’t find it…then submit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(Hey, you will be that much closer to 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an </a:t>
            </a:r>
            <a:r>
              <a:rPr b="1" i="1" lang="en-US" sz="1800" spc="-1" strike="noStrike">
                <a:solidFill>
                  <a:srgbClr val="0066ff"/>
                </a:solidFill>
                <a:latin typeface="Arial"/>
              </a:rPr>
              <a:t>OWL Egg Award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54864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-Reach out to other schools via the </a:t>
            </a:r>
            <a:r>
              <a:rPr b="1" i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DARS-L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listser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-Another DARS client may have solved the same probl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500"/>
                            </p:stCondLst>
                            <p:childTnLst>
                              <p:par>
                                <p:cTn id="53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3e3c7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Poor Richard"/>
              </a:rPr>
              <a:t>	</a:t>
            </a:r>
            <a:r>
              <a:rPr b="0" lang="en-US" sz="4000" spc="-1" strike="noStrike">
                <a:solidFill>
                  <a:srgbClr val="333399"/>
                </a:solidFill>
                <a:latin typeface="Poor Richard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772400" y="6095880"/>
            <a:ext cx="1219320" cy="676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28600" y="304920"/>
            <a:ext cx="855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IA AUDIT ENCODING: CHART CATEG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2438280"/>
            <a:ext cx="8001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hart categories = a driving 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Makes the charts and graphs function on the interactive aud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-take time to evaluate each degre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-meet with your college contacts, advisor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lected students, etc…asking yoursel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ff"/>
                </a:solidFill>
                <a:latin typeface="Arial"/>
              </a:rPr>
              <a:t>What would our school want  to see represen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ff"/>
                </a:solidFill>
                <a:latin typeface="Arial"/>
              </a:rPr>
              <a:t>on our IA Charts &amp; Graph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i="1" lang="en-US" sz="1800" spc="-1" strike="noStrike">
                <a:solidFill>
                  <a:srgbClr val="0066ff"/>
                </a:solidFill>
                <a:latin typeface="Arial"/>
              </a:rPr>
              <a:t>=&gt;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 total hours &amp; gpa data?            </a:t>
            </a:r>
            <a:r>
              <a:rPr b="1" i="1" lang="en-US" sz="1800" spc="-1" strike="noStrike">
                <a:solidFill>
                  <a:srgbClr val="0066ff"/>
                </a:solidFill>
                <a:latin typeface="Arial"/>
              </a:rPr>
              <a:t>=&gt;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 major requirement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i="1" lang="en-US" sz="1800" spc="-1" strike="noStrike">
                <a:solidFill>
                  <a:srgbClr val="0066ff"/>
                </a:solidFill>
                <a:latin typeface="Arial"/>
              </a:rPr>
              <a:t>=&gt;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 premajor requirements?           </a:t>
            </a:r>
            <a:r>
              <a:rPr b="1" i="1" lang="en-US" sz="1800" spc="-1" strike="noStrike">
                <a:solidFill>
                  <a:srgbClr val="0066ff"/>
                </a:solidFill>
                <a:latin typeface="Arial"/>
              </a:rPr>
              <a:t>=&gt;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 other(s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5562720"/>
            <a:ext cx="8686800" cy="9169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TIP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The prior mentioned document titled, STEP BY STEP INTERACTIVE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AUDIT ENCODING, proved to be a great resource for encoding the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chart catego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 rot="445800">
            <a:off x="228600" y="1142640"/>
            <a:ext cx="3505320" cy="111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555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cc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TOTAL HOURS &amp; GPA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cc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 rot="603000">
            <a:off x="5029200" y="1295280"/>
            <a:ext cx="3886200" cy="111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555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cc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MAJOR &amp;/OR PREMAJOR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cc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77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770" fill="hold"/>
                                        <p:tgtEl>
                                          <p:spTgt spid="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77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770" fill="hold"/>
                                        <p:tgtEl>
                                          <p:spTgt spid="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" dur="77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" dur="77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50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500"/>
                            </p:stCondLst>
                            <p:childTnLst>
                              <p:par>
                                <p:cTn id="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500"/>
                            </p:stCondLst>
                            <p:childTnLst>
                              <p:par>
                                <p:cTn id="1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7000"/>
                            </p:stCondLst>
                            <p:childTnLst>
                              <p:par>
                                <p:cTn id="1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7500"/>
                            </p:stCondLst>
                            <p:childTnLst>
                              <p:par>
                                <p:cTn id="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800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85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3e3c7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772400" y="6095880"/>
            <a:ext cx="1219320" cy="676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28600" y="304920"/>
            <a:ext cx="855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IA AUDIT ENCODING: CHART CATEG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83808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Although chart categories will differ for each school, here is a quick peek at UK’s Chart Categorie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04920" y="1523880"/>
            <a:ext cx="4343400" cy="327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0" name=""/>
          <p:cNvSpPr/>
          <p:nvPr/>
        </p:nvSpPr>
        <p:spPr>
          <a:xfrm>
            <a:off x="457200" y="4952880"/>
            <a:ext cx="822960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TIP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First, create the “Category Names”.  Next, assign characters to each of the category na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5715000"/>
            <a:ext cx="7924680" cy="9169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TIP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Be mindful of Requirement Name…it is what shows on the Charts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&amp; Graph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800600" y="1523880"/>
            <a:ext cx="4000680" cy="327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3e3c7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772400" y="6095880"/>
            <a:ext cx="1219320" cy="6764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28600" y="304920"/>
            <a:ext cx="855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IA AUDIT: TRANSCRIPT REQUIREMENT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990720"/>
            <a:ext cx="868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iami DARS Team has showed how to creat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n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Transcript requirement…we went a step further and created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thre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TRN-COMP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  (Complete, In-Progress, &amp; Priority Registered Cours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TRN-PLAN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   (Planned Cours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TRN-MISC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    (Miscellaneou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495680" y="2666880"/>
            <a:ext cx="4210200" cy="327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990720" y="2743200"/>
            <a:ext cx="2504880" cy="1600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8" name=""/>
          <p:cNvSpPr/>
          <p:nvPr/>
        </p:nvSpPr>
        <p:spPr>
          <a:xfrm>
            <a:off x="304920" y="4952880"/>
            <a:ext cx="3962160" cy="9169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TIP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All three will appear on aud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ONLY when something h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appli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3352680"/>
            <a:ext cx="762120" cy="533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  <a:effectLst>
            <a:outerShdw dist="53966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3e3c7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772400" y="6095880"/>
            <a:ext cx="1219320" cy="676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422440" y="1941480"/>
            <a:ext cx="3292560" cy="366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304920"/>
            <a:ext cx="855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IA AUDIT: TRANSCRIPT REQUIREMENT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90720"/>
            <a:ext cx="8610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nly two of the three transcript requirements feed the chart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RAN-COMP (Completed, In-Progress, &amp; Priority Registered Cour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 …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RAN-PLAN  (Planned Cours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(TRAN-MISC only holds non-credit/non-gpa items not needed in charts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19920" y="2819520"/>
            <a:ext cx="2590560" cy="3050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53966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LEG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6600"/>
                </a:solidFill>
                <a:uFillTx/>
                <a:latin typeface="Arial"/>
              </a:rPr>
              <a:t>Solid Green</a:t>
            </a:r>
            <a:r>
              <a:rPr b="1" lang="en-US" sz="1800" spc="-1" strike="noStrike" u="sng">
                <a:solidFill>
                  <a:srgbClr val="0066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99cc00"/>
                </a:solidFill>
                <a:uFillTx/>
                <a:latin typeface="Arial"/>
              </a:rPr>
              <a:t>Faded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-Progress and/or Regis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66ff"/>
                </a:solidFill>
                <a:uFillTx/>
                <a:latin typeface="Arial"/>
              </a:rPr>
              <a:t>Faded Blue/Pur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ned Course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80880" y="2590920"/>
            <a:ext cx="5381640" cy="3876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3e3c7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772400" y="6095880"/>
            <a:ext cx="1219320" cy="6764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28600" y="304920"/>
            <a:ext cx="855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IA AUDIT: COURSE CART &amp; PLANNED COURSE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76520" y="838080"/>
            <a:ext cx="2438280" cy="642600"/>
          </a:xfrm>
          <a:prstGeom prst="rect">
            <a:avLst/>
          </a:prstGeom>
          <a:noFill/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COURSE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343400" y="838080"/>
            <a:ext cx="3089160" cy="642600"/>
          </a:xfrm>
          <a:prstGeom prst="rect">
            <a:avLst/>
          </a:prstGeom>
          <a:noFill/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SEMESTER(S)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09680" y="4183200"/>
            <a:ext cx="1067040" cy="366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175248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TIP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atalog Year-Term Options = drop down menus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371600" y="3429000"/>
            <a:ext cx="5676840" cy="3029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2895480" y="2286000"/>
            <a:ext cx="914400" cy="251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4114800" y="2286000"/>
            <a:ext cx="3962520" cy="916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YI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rop down menus may be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ood practice throughou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th DARSWEB &amp; IA Aud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3e3c7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772400" y="6095880"/>
            <a:ext cx="1219320" cy="676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28600" y="304920"/>
            <a:ext cx="855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IA AUDIT: COURSE CART &amp; PLANNED COURSE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2133720"/>
            <a:ext cx="2743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TIP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lthough using asterisks for A/R Lines may be inevitabl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f SELECT &amp; NOT FROM lists will be hyperlinks, then be sure to encode the course lists as detailed as possible – where possible- or Course Cart could become a burden to u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114800" y="1752480"/>
            <a:ext cx="3857760" cy="4496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9" name=""/>
          <p:cNvSpPr/>
          <p:nvPr/>
        </p:nvSpPr>
        <p:spPr>
          <a:xfrm>
            <a:off x="1676520" y="838080"/>
            <a:ext cx="2438280" cy="642600"/>
          </a:xfrm>
          <a:prstGeom prst="rect">
            <a:avLst/>
          </a:prstGeom>
          <a:noFill/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COURSE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838080"/>
            <a:ext cx="3089160" cy="642600"/>
          </a:xfrm>
          <a:prstGeom prst="rect">
            <a:avLst/>
          </a:prstGeom>
          <a:noFill/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SEMESTER(S)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3T20:00:33Z</dcterms:created>
  <dc:creator>Bruce Manley</dc:creator>
  <dc:description/>
  <dc:language>en-US</dc:language>
  <cp:lastModifiedBy>Bruce Manley</cp:lastModifiedBy>
  <dcterms:modified xsi:type="dcterms:W3CDTF">2005-06-17T12:54:06Z</dcterms:modified>
  <cp:revision>206</cp:revision>
  <dc:subject/>
  <dc:title>NCAA Encod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