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976A1B-F249-41D0-B8FC-E4A87249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E SLIDE ABOVE FOR DETAIL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:   Document titl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“Step By Step Interactive Audit Enco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tly u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encoding new IA Aud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is PowerPoint will be on our website-do not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&amp; St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docu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methods aiding in encoding the IA 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RS Support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e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werPoint Presentation from past 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RS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 Categ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nk of as driving fo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hind making interactive audi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et with others at your 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garding what should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on charts &amp; grap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tep By Step document is a great resou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encod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peek at UK’s Chart Categ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 Category Na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x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ign the 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 mindful of Requirement Na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nce they are the may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bels on the charts &amp; grap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 Requir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mi showed how to creat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K created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inly for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rting 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xpanding the capability of the Planned Cour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e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 Requir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wo show on charts &amp; graph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in the View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History section of the IA 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Miscellaneous” attempts to cap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n-gpa &amp; non-credi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Cart &amp; Planned Course fe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d b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th students and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urse sele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uture semesters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drop down men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Year-Terms values within bo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SWEB and the interactive aud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en tha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ny users created their own version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hat a Year-Term value should look l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e drop down menu on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reating a planned transcript requirem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us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xpand our future semes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Cart &amp; Planned Course fe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ing asterisks for A/R lines may be inevit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erta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ments such as electives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WEVER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making SELECT &amp;  NOT FROM lin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o link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f possible &amp; where possibl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 as specific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in A/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urse Cart &amp; Planned Cour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may becom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ess of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rden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ACE-4C3B-4821-96E0-1C74A7EB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02E-5298-40E8-B504-09483A94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B5F-C423-4925-AFE8-956F094F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2E5-ED74-47DC-A1AA-BA7F9DBC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6EF-EF27-4994-922C-4E0DC8A7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66C-9217-43D3-9945-04F7F553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504-81EE-49A9-A029-4E1338AA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00C-0014-4758-B2D8-89CC7BAB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99B-0BEA-4F29-8C84-A0095F52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FE1-070B-4C95-A7AB-2FD53B85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741-E8CC-4ADB-87F2-A17C0602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3B7-815F-4092-A9AA-65A11877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EC78-E823-49BF-B603-90F6A8C47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99"/>
                </a:solidFill>
                <a:latin typeface="Poor Richard"/>
              </a:rPr>
              <a:t>IA Encodi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403848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or Richard"/>
              </a:rPr>
              <a:t>University of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or Richard"/>
              </a:rPr>
              <a:t>Degree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Lucida Calligraphy"/>
              </a:rPr>
              <a:t>AP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362320" y="914400"/>
            <a:ext cx="4419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oor Richard"/>
              </a:rPr>
              <a:t>DARS 3.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oor Richard"/>
              <a:ea typeface="Poor Richar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" y="304920"/>
            <a:ext cx="85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A AUDIT: THINGS TO LOOK OU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06668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NNECESSARY GPA’S ON CHARTS &amp;/OR 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Asking Miami about ability to choose to “hide” gpa results from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charts and/or graphs if the focus is to be solely on credit h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or “hide” credit hours if the focus is to be solely on g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&lt;click for nex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666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UBLE DIPPING MAY CAUSE GPA &amp;/OR CREDIT HOURS TO BE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If there are requirements that allow “double dipping” of a cour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then that course’s gpa &amp;/or credit hours may count multiple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&lt;click for nex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0384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IDDEN REQUIREMENTS TEND TO SHOW IN CH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Asking Miami about hidden requirements appearing in the charts &amp;/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&lt;click for nex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5257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DECIMAL AMOUNTS SHOW ON AUDIT’S REQUIREMENT LEVEL CHART AND/OR GRAPH…USE REQUIREMENT LEVEL ‘MAX HOURS’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If a chart and/or graph shows the credit hours as a decimal amou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remember to use the requirement level “max hours”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895480" y="2666880"/>
            <a:ext cx="3124440" cy="119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Palatino"/>
              </a:rPr>
              <a:t>AND NO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Palatino"/>
              </a:rPr>
              <a:t>BR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Poor Richard"/>
              </a:rPr>
              <a:t>Style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685800"/>
            <a:ext cx="6477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Lucida Sans"/>
              </a:rPr>
              <a:t>File Name:</a:t>
            </a:r>
            <a:r>
              <a:rPr b="1" lang="en-US" sz="12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1" lang="en-US" sz="12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1" lang="en-US" sz="1200" spc="-1" strike="noStrike">
                <a:solidFill>
                  <a:srgbClr val="333399"/>
                </a:solidFill>
                <a:latin typeface="Lucida Sans"/>
              </a:rPr>
              <a:t>audit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Lucida Sans"/>
              </a:rPr>
              <a:t>CORDA Directory:</a:t>
            </a:r>
            <a:r>
              <a:rPr b="1" lang="en-US" sz="12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1" lang="en-US" sz="1200" spc="-1" strike="noStrike">
                <a:solidFill>
                  <a:srgbClr val="009900"/>
                </a:solidFill>
                <a:latin typeface="Lucida Sans"/>
              </a:rPr>
              <a:t>/darwinia351/info/</a:t>
            </a:r>
            <a:r>
              <a:rPr b="1" lang="en-US" sz="1200" spc="-1" strike="noStrike">
                <a:solidFill>
                  <a:srgbClr val="333399"/>
                </a:solidFill>
                <a:latin typeface="Lucida Sans"/>
              </a:rPr>
              <a:t>audit.css</a:t>
            </a:r>
            <a:r>
              <a:rPr b="1" lang="en-US" sz="12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21750" t="14439" r="39753" b="28314"/>
          <a:stretch/>
        </p:blipFill>
        <p:spPr>
          <a:xfrm>
            <a:off x="152280" y="1371600"/>
            <a:ext cx="346104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21750" t="13782" r="39753" b="27937"/>
          <a:stretch/>
        </p:blipFill>
        <p:spPr>
          <a:xfrm>
            <a:off x="3505320" y="1371600"/>
            <a:ext cx="341928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057400" y="1600200"/>
            <a:ext cx="1523880" cy="7632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743200"/>
            <a:ext cx="1524240" cy="22860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57200"/>
            <a:ext cx="2133720" cy="75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 headings changed to bold and under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width from 750 pixels to 815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d font color of courses fulfilling the requirements from light to dark b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ed link col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visited links from dark blue to dark 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d the Select from to bold and dark blue but left not from the s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sor cha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2743200"/>
            <a:ext cx="1523880" cy="22860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352680"/>
            <a:ext cx="1371600" cy="45720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200400"/>
            <a:ext cx="2895840" cy="160020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200400"/>
            <a:ext cx="2895480" cy="160020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895480"/>
            <a:ext cx="2666880" cy="304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971800"/>
            <a:ext cx="2666880" cy="22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5029200"/>
            <a:ext cx="380880" cy="30492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105520"/>
            <a:ext cx="380880" cy="30456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523880"/>
            <a:ext cx="2133720" cy="22860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1600200"/>
            <a:ext cx="2133360" cy="22860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819520"/>
            <a:ext cx="198108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048120"/>
            <a:ext cx="8384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257800"/>
            <a:ext cx="304812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715000" y="990360"/>
            <a:ext cx="1143000" cy="6094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562720" y="2437920"/>
            <a:ext cx="1371600" cy="381240"/>
          </a:xfrm>
          <a:prstGeom prst="line">
            <a:avLst/>
          </a:prstGeom>
          <a:ln w="1260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038480"/>
            <a:ext cx="1523880" cy="38124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3124080"/>
            <a:ext cx="533160" cy="21337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5334120"/>
            <a:ext cx="1981080" cy="91440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Poor Richard"/>
              </a:rPr>
              <a:t>IP 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21750" t="19688" r="39753" b="28125"/>
          <a:stretch/>
        </p:blipFill>
        <p:spPr>
          <a:xfrm>
            <a:off x="762120" y="762120"/>
            <a:ext cx="5599080" cy="6095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rcRect l="22503" t="19688" r="39000" b="28125"/>
          <a:stretch/>
        </p:blipFill>
        <p:spPr>
          <a:xfrm>
            <a:off x="1219320" y="762120"/>
            <a:ext cx="55450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562720" y="213372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is graphic is included with the 3.5.2 re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xit" presetID="42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-0.12813 4.44444E-006 E">
                                      <p:cBhvr>
                                        <p:cTn id="45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2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Poor Richard"/>
              </a:rPr>
              <a:t>Course Description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****.html#***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URSE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1905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URS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1371600"/>
            <a:ext cx="838080" cy="3808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943240" y="1447920"/>
            <a:ext cx="609480" cy="3808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5510160" cy="1639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43200" y="4267080"/>
            <a:ext cx="388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O .html#    1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  .html#    2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548640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 the UNIX web server, use the symbolic link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n -s ma.html ‘ma  .htm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n -s rae.html ‘rus.htm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Poor Richard"/>
              </a:rPr>
              <a:t>Help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4038480" cy="3038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419720" y="1143000"/>
            <a:ext cx="4495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A_Audit1.png was 323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nged fil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duced the number of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572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IA_Audit1.gif is now 40 K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de a 87% reduction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100"/>
                            </p:stCondLst>
                            <p:childTnLst>
                              <p:par>
                                <p:cTn id="5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Poor Richard"/>
              </a:rPr>
              <a:t>HTML Tags in the Au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934320" cy="128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6934320" cy="128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752480" y="3809880"/>
            <a:ext cx="5715000" cy="286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5334120" cy="3919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23250" t="41251" r="37503" b="32813"/>
          <a:stretch/>
        </p:blipFill>
        <p:spPr>
          <a:xfrm>
            <a:off x="2514600" y="4114800"/>
            <a:ext cx="4889520" cy="25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3.33333E-006 -0.17454 E">
                                      <p:cBhvr>
                                        <p:cTn id="59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Poor Richard"/>
              </a:rPr>
              <a:t>APEX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90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ttp://www.uky.edu/degreeaudit/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1981080"/>
            <a:ext cx="89154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taile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ownloa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ttp://www.uky.edu/degreeaudit/download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429000" y="49528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70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7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Palatino"/>
              </a:rPr>
              <a:t>IA AUDIT:   ENCODING 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838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Miami University DARS Team has an excellent document titled, “Step by Step Interactive Audit Encoding”…frequently used by m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191120" cy="403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800600" y="1523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DOCUME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209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tarting Po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ARS Suppor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971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lick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ARS/CAS Down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809880"/>
            <a:ext cx="37339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lick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ARWIN 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towards the top of left side inde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410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pen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Step By Step Interactive Audit En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648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o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ection labled: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715000"/>
            <a:ext cx="350496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int &amp; store docu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in a handy-dandy, easi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trievable bi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Palatino"/>
              </a:rPr>
              <a:t>IA AUDIT:   ENCODING 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219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vantGarde"/>
              </a:rPr>
              <a:t>IN DOUBT?  CONFUSED?  LOST?  NEVER FEA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7524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Visit the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DARS SUPPOR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There may be existing documentation, such as what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just shared, regarding encoding the IA Audi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HINT, HI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      …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IA Audit related PowerPoint presentations from pr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June 2004 DARS Users Con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657600"/>
            <a:ext cx="74678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-Search the 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OWL (ONLINE WIZARD’S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Someone else may have experienced the sam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If you can’t find it…then submi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(Hey, you will be that much closer to 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n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OWL Egg Award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486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-Reach out to other schools via the 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DARS-L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lists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Another DARS client may have solved the sam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Poor Richard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Poor Richard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04920"/>
            <a:ext cx="85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A AUDIT ENCODING: CHART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hart categories = a driving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kes the charts and graphs function on the interactive au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take time to evaluate each degre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meet with your college contacts, adviso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lected students, etc…asking yoursel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ff"/>
                </a:solidFill>
                <a:latin typeface="Arial"/>
              </a:rPr>
              <a:t>What would our school want  to see repres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ff"/>
                </a:solidFill>
                <a:latin typeface="Arial"/>
              </a:rPr>
              <a:t>on our IA Charts &amp; Graph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=&gt;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total hours &amp; gpa data?           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=&gt;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major require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=&gt;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premajor requirements?          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=&gt;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other(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562720"/>
            <a:ext cx="8686800" cy="916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he prior mentioned document titled, STEP BY STEP INTERACTIVE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UDIT ENCODING, proved to be a great resource for encoding the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hart categ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445800">
            <a:off x="228600" y="1142640"/>
            <a:ext cx="350532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55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OTAL HOURS &amp; GP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 rot="603000">
            <a:off x="5029200" y="1295280"/>
            <a:ext cx="3886200" cy="111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55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JOR &amp;/OR PREMAJO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304920"/>
            <a:ext cx="85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A AUDIT ENCODING: CHART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8380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lthough chart categories will differ for each school, here is a quick peek at UK’s Chart Categori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3434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457200" y="4952880"/>
            <a:ext cx="82296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First, create the “Category Names”.  Next, assign characters to each of the category n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715000"/>
            <a:ext cx="7924680" cy="916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Be mindful of Requirement Name…it is what shows on the Chart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&amp; 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400068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304920"/>
            <a:ext cx="85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A AUDIT: TRANSCRIPT REQUIREMENT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99072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ami DARS Team has showed how to creat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ranscript requirement…we went a step further and created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re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RN-COMP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 (Complete, In-Progress, &amp; Priority Registered Co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RN-PLAN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  (Planned Co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RN-MISC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   (Miscellaneou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2102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5048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304920" y="4952880"/>
            <a:ext cx="3962160" cy="916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ll three will appear on aud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NLY when something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ppl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352680"/>
            <a:ext cx="76212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422440" y="1941480"/>
            <a:ext cx="32925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04920"/>
            <a:ext cx="85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A AUDIT: TRANSCRIPT REQUIREMENT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907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ly two of the three transcript requirements feed the char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AN-COMP (Completed, In-Progress, &amp; Priority Registered Cour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…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AN-PLAN  (Planned Co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TRAN-MISC only holds non-credit/non-gpa items not needed in chart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2819520"/>
            <a:ext cx="2590560" cy="3050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Solid Green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cc00"/>
                </a:solidFill>
                <a:uFillTx/>
                <a:latin typeface="Arial"/>
              </a:rPr>
              <a:t>Faded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Progress and/or Reg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66ff"/>
                </a:solidFill>
                <a:uFillTx/>
                <a:latin typeface="Arial"/>
              </a:rPr>
              <a:t>Faded Blue/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ed Cours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538164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304920"/>
            <a:ext cx="85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A AUDIT: COURSE CART &amp; PLANNED COURS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838080"/>
            <a:ext cx="2438280" cy="6426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COURS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838080"/>
            <a:ext cx="3089160" cy="6426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SEMESTER(S)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4183200"/>
            <a:ext cx="1067040" cy="36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7524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talog Year-Term Options = drop down menu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567684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895480" y="2286000"/>
            <a:ext cx="9144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114800" y="2286000"/>
            <a:ext cx="3962520" cy="91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YI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p down menus may b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od practice throug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th DARSWEB &amp; IA Au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304920"/>
            <a:ext cx="85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A AUDIT: COURSE CART &amp; PLANNED COURS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133720"/>
            <a:ext cx="2743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though using asterisks for A/R Lines may be inevita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SELECT &amp; NOT FROM lists will be hyperlinks, then be sure to encode the course lists as detailed as possible – where possible- or Course Cart could become a burden to 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114800" y="1752480"/>
            <a:ext cx="3857760" cy="449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676520" y="838080"/>
            <a:ext cx="2438280" cy="6426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COURS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838080"/>
            <a:ext cx="3089160" cy="6426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SEMESTER(S)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20:00:33Z</dcterms:created>
  <dc:creator>Bruce Manley</dc:creator>
  <dc:description/>
  <dc:language>en-US</dc:language>
  <cp:lastModifiedBy>Bruce Manley</cp:lastModifiedBy>
  <dcterms:modified xsi:type="dcterms:W3CDTF">2005-06-17T12:54:06Z</dcterms:modified>
  <cp:revision>206</cp:revision>
  <dc:subject/>
  <dc:title>NCAA Enco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